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086B-D26B-441F-B661-79C71A804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1F92-A58F-48B2-B942-2061297C6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14F5-8AD2-487D-A52A-18E74D72B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4957-8A76-4EBE-A02F-CB8E0F074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20F0-6E0E-4464-A949-5DA084A61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doctoronline.com/medical-atlas.asp?c=4&amp;id=22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23D5-8CD9-4741-818D-F31AC26C2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EBB5-2379-4D3C-8A5E-6C3D3A2F4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large-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FD94-8609-4C2D-BBB7-E99084F87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yoclinic.org/-/media/kcms/gbs/patient-consumer/images/2016/05/02/14/44/mcdc7_endoscopy-8col.ash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DADD-33B5-4356-9E31-CD91BD70E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sdmanuals.com/professional/gastrointestinal-disorders/diagnostic-and-therapeutic-gi-procedures/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6D67-282B-4E87-A513-AED27E8E4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jgnet.com/1948-5190/full/v7/i1/1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4A3F-5BBA-41A1-90B0-3F637136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C8A9-0D21-4079-BC42-79155C6D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21B7-5D9A-44D1-B1D0-C2FC1726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E4B1-8C15-4382-AF7B-50D3EA934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eatorama.com/2008/09/15/wim-delvoye-worlds-most-badass-artis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an conceptual artist Wim Delvoye created a machine that digests food…and produces f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DB3D-8C00-4792-9C93-34B5A2494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rriam-webster.com/art/med/digesti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E7A1-2BB1-49C4-B3BB-1C83A4460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BE96-FDF6-4847-A7CD-0605788EA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astropatienteducation.com/Gatro_Pat/Pat_Ed_web_pages/Small_Intest/The_Small_Intestine.htm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EB2C-A182-47FA-AD08-4571ED568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, pancreas, gall bla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DFA0-0664-40C1-A91F-39770B285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4D8B-9EA0-46BF-84CF-8BC93F4B2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5035-E7BF-4CAA-B115-5DFFEB83B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9ED-DBFA-479B-9ED1-30AD2DFC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351-9BD7-4847-B902-F7096D13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F2C-DACC-408C-A5C0-5C42C101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6C6-3B44-4A39-96D6-56233F50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B30-84A3-4C91-97E0-87EAC311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0BF-EC06-4FA9-A5D7-98E2735B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78D-4D41-4029-A50D-6CE04FAD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8F4-C9A8-4589-912D-A5580695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F89-632D-42B6-A911-CA21286F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654-396F-4C54-ACA0-0230C1B5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FB1-E946-4AB5-8118-717E828A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0A5-067C-4245-B396-21E412F5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7CA8-FAB1-4557-B9A8-53E5201FD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all &amp; large intes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psinogen released by panc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p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enzy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e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psin continues to break down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xypeptidase &amp; erepsin break down small chains into single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oduced in liver &amp; stored in gall bladder and released into the duode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e breaks down large fat glo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p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reted by pancreas break down fats into smaller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ed fats are absorb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t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Intestine -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hotos_88EB3125-5618-45A8-BA5D-2834A502C2E1"/>
          <p:cNvPicPr/>
          <p:nvPr/>
        </p:nvPicPr>
        <p:blipFill>
          <a:blip r:embed="rId1"/>
          <a:stretch/>
        </p:blipFill>
        <p:spPr>
          <a:xfrm>
            <a:off x="911160" y="1981080"/>
            <a:ext cx="732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transport (including osm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 are absorbed in capillary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7.6 cm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.5 m i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h9991263_001"/>
          <p:cNvPicPr/>
          <p:nvPr/>
        </p:nvPicPr>
        <p:blipFill>
          <a:blip r:embed="rId1"/>
          <a:stretch/>
        </p:blipFill>
        <p:spPr>
          <a:xfrm>
            <a:off x="4114800" y="2548080"/>
            <a:ext cx="4572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water is absor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+ species of bacteria produce essential vitamins K and some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ces are egested through the 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sc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mcdc7_endoscopy-8col.ashx.jpeg"/>
          <p:cNvPicPr/>
          <p:nvPr/>
        </p:nvPicPr>
        <p:blipFill>
          <a:blip r:embed="rId1"/>
          <a:srcRect l="-34428" t="0" r="-34428" b="0"/>
          <a:stretch/>
        </p:blipFill>
        <p:spPr>
          <a:xfrm>
            <a:off x="291960" y="1773360"/>
            <a:ext cx="8704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orga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3" descr="p5100129-endoscopy-stomach-science-photo-library-high.jpg"/>
          <p:cNvPicPr/>
          <p:nvPr/>
        </p:nvPicPr>
        <p:blipFill>
          <a:blip r:embed="rId1"/>
          <a:srcRect l="-44017" t="0" r="-44017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sule End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5" descr="WJGE-7-13-g002.jpg"/>
          <p:cNvPicPr/>
          <p:nvPr/>
        </p:nvPicPr>
        <p:blipFill>
          <a:blip r:embed="rId1"/>
          <a:srcRect l="-16469" t="0" r="-16469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Ryerson animation &amp; quiz (good overview, but not a lot of detail about the enzymes &amp; secre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McGraw-Hill digestion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finally…science meets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wim-delvoye-cloaca-machines"/>
          <p:cNvPicPr/>
          <p:nvPr/>
        </p:nvPicPr>
        <p:blipFill>
          <a:blip r:embed="rId1"/>
          <a:stretch/>
        </p:blipFill>
        <p:spPr>
          <a:xfrm>
            <a:off x="1477800" y="1676520"/>
            <a:ext cx="6188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igestio"/>
          <p:cNvPicPr/>
          <p:nvPr/>
        </p:nvPicPr>
        <p:blipFill>
          <a:blip r:embed="rId1"/>
          <a:stretch/>
        </p:blipFill>
        <p:spPr>
          <a:xfrm>
            <a:off x="2135160" y="304920"/>
            <a:ext cx="487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quizzes are good for reviewing anatomy, but not the enzymes/secre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kidshealth.org/kid/htbw/D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ftschools.com/quizzes/science/digestive_system/quiz75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.5 cm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7 m i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uode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rst 25-30 cm: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eju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igestion/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l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mall_intestine"/>
          <p:cNvPicPr/>
          <p:nvPr/>
        </p:nvPicPr>
        <p:blipFill>
          <a:blip r:embed="rId1"/>
          <a:stretch/>
        </p:blipFill>
        <p:spPr>
          <a:xfrm>
            <a:off x="4343400" y="2573280"/>
            <a:ext cx="449568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ory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liver_surgical_flat_labels-cropped"/>
          <p:cNvPicPr/>
          <p:nvPr/>
        </p:nvPicPr>
        <p:blipFill>
          <a:blip r:embed="rId1"/>
          <a:stretch/>
        </p:blipFill>
        <p:spPr>
          <a:xfrm>
            <a:off x="2160720" y="1981080"/>
            <a:ext cx="482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of 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yme has pH of about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s prosecretin i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re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uses pancreas to release bicarbonate ions (increasing pH to 9.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sin is inactivated, protecting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cretin also stimulates liver to produce bile, and pancreas to release enzy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creatic Secre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yme enters duode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cystokinin (CCK) is released into blood by cells in duode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K causes pancreatic cells to release various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tic amylase is released into duode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s breakdown of starch started in the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20:23Z</dcterms:created>
  <dc:creator>rubina khan</dc:creator>
  <dc:description/>
  <dc:language>en-US</dc:language>
  <cp:lastModifiedBy>rubina khan</cp:lastModifiedBy>
  <dcterms:modified xsi:type="dcterms:W3CDTF">2017-05-10T12:01:38Z</dcterms:modified>
  <cp:revision>74</cp:revision>
  <dc:subject/>
  <dc:title>PowerPoint Presentation</dc:title>
</cp:coreProperties>
</file>